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CB3A-622C-4EF7-8433-F493B5F82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D27-10FD-4249-8824-E33C2D2EC6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111-4A84-4CE3-8B1D-52D7AF1D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B8A-3815-4E94-9551-A022128C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6A2-2A5F-4B64-BD7A-25EA7315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020-9F64-43C0-A18F-D6CAAA04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133-691F-4A55-A60A-FDA77DAE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0B1-DEBA-4128-888A-9F2396B0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B44-DBC0-4778-860B-7B88E4B5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AD9-4217-42B2-BA20-90A2287F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297-67CC-4C86-85F6-7F38D06D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228-7AB9-4FD9-BC41-40697FDC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0C2-6E57-489D-A0E2-82586F63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EE9-B268-4C80-9ADC-4A9BCD8D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492B-1A18-4295-A0AC-F5D358F0C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24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AA5C6EC0-06EF-47D8-862C-82B82B4B8AF2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Explain changes you can make to increase the strength of an electromagnet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71600" y="380880"/>
            <a:ext cx="6095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t's Investig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905120" y="2225520"/>
            <a:ext cx="5172120" cy="251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romagne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68440" y="3135960"/>
            <a:ext cx="5077440" cy="3461760"/>
            <a:chOff x="2368440" y="3135960"/>
            <a:chExt cx="5077440" cy="3461760"/>
          </a:xfrm>
        </p:grpSpPr>
        <p:sp>
          <p:nvSpPr>
            <p:cNvPr id="190" name=""/>
            <p:cNvSpPr/>
            <p:nvPr/>
          </p:nvSpPr>
          <p:spPr>
            <a:xfrm>
              <a:off x="2368440" y="3157560"/>
              <a:ext cx="1464120" cy="51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99600" y="3672720"/>
              <a:ext cx="0" cy="257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2513880" y="3877560"/>
              <a:ext cx="120816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539520" y="5938920"/>
              <a:ext cx="26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 rot="8409600">
              <a:off x="4606920" y="3556080"/>
              <a:ext cx="2261520" cy="26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V="1">
              <a:off x="3539520" y="3855600"/>
              <a:ext cx="181908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What variables affect the strength of an electromagne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228600"/>
            <a:ext cx="655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219320" y="228600"/>
            <a:ext cx="655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cedure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447920"/>
            <a:ext cx="87631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 an electromagnet with 25 coils using the nail and wire provided at your lab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 the table by testing how many paper clips your electromagnet can pick up in the given condi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each one 3 times and average your results (You may login to the computer and use a calculator to find the average resul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e result of each test and the average in the space provi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apart your 25 coil electromagnet and put all the supplies back as you found them when you arri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 the conclusion questions on the back of your lab worksh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72200" y="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320" y="7632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Electromagnetic Variab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14400"/>
            <a:ext cx="91440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  Build an electromagnet using the specified batteries and perform tests to complete the chart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EMBER:  ONLY HAVE YOUR CIRCUIT COMPLETE WHILE YOU ARE PERFORMING EACH TEST!  TURN OFF THE ELECTROMAGNET BETWEEN TRIAL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905120"/>
          <a:ext cx="8229600" cy="4659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ps Picked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 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D Bat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Volt 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3880" y="7632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Conclu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85800"/>
            <a:ext cx="914400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What were some variables we tes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ere some of your controls to make sure your experiment was vali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3 ways you can increase the strength of an electromag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advantages that electromagnets have over permanent magn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523880" y="7632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Conclu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85800"/>
            <a:ext cx="9144000" cy="58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What were some variables we tes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ere some of your controls to make sure your experiment was vali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3 ways you can increase the strength of an electromag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advantages that electromagnets have over permanent magn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0666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We tested the number of coils, the amount of current, the size of the core, and the neatness of the c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3781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art of nail used to pick up paperclips, size and length of wire, direction of coil wra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5053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Increase the number of coils or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Increase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Increase the size of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Increase the neatness/tightness of the c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943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Electromagnets can be strengthened, turned off, and you can switch their p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440" y="1400400"/>
            <a:ext cx="8686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DUE FRI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Questions 11-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iz 3 – Electricity &amp; Magne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agnets can be strengthened by increasing the number of coils or loops, increasing the current, increasing the size of the core, and or neatening/tightening the co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222" name="ANShape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NText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select a Te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55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14480" y="76320"/>
            <a:ext cx="4914360" cy="457200"/>
            <a:chOff x="114480" y="76320"/>
            <a:chExt cx="4914360" cy="4572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114480" y="76320"/>
              <a:ext cx="1134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1276920" y="131760"/>
              <a:ext cx="3751920" cy="36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grpSp>
        <p:nvGrpSpPr>
          <p:cNvPr id="62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63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69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124080" y="-76320"/>
            <a:ext cx="5943240" cy="2057400"/>
            <a:chOff x="3124080" y="-76320"/>
            <a:chExt cx="5943240" cy="205740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3124080" y="367920"/>
              <a:ext cx="1930680" cy="156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"/>
            <p:cNvGrpSpPr/>
            <p:nvPr/>
          </p:nvGrpSpPr>
          <p:grpSpPr>
            <a:xfrm>
              <a:off x="6041880" y="344520"/>
              <a:ext cx="3025440" cy="1636560"/>
              <a:chOff x="6041880" y="344520"/>
              <a:chExt cx="3025440" cy="1636560"/>
            </a:xfrm>
          </p:grpSpPr>
          <p:pic>
            <p:nvPicPr>
              <p:cNvPr id="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24840" y="344520"/>
                <a:ext cx="1842480" cy="157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5"/>
              <a:srcRect l="0" t="0" r="27768" b="0"/>
              <a:stretch/>
            </p:blipFill>
            <p:spPr>
              <a:xfrm>
                <a:off x="6041880" y="402120"/>
                <a:ext cx="1330920" cy="157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"/>
            <p:cNvSpPr/>
            <p:nvPr/>
          </p:nvSpPr>
          <p:spPr>
            <a:xfrm>
              <a:off x="3663000" y="-7632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68600" y="-76320"/>
              <a:ext cx="70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48080" y="118620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11880" y="118620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00600" y="1186200"/>
              <a:ext cx="59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85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200400" y="-76320"/>
            <a:ext cx="5709960" cy="1650240"/>
            <a:chOff x="3200400" y="-76320"/>
            <a:chExt cx="5709960" cy="1650240"/>
          </a:xfrm>
        </p:grpSpPr>
        <p:grpSp>
          <p:nvGrpSpPr>
            <p:cNvPr id="92" name=""/>
            <p:cNvGrpSpPr/>
            <p:nvPr/>
          </p:nvGrpSpPr>
          <p:grpSpPr>
            <a:xfrm>
              <a:off x="4392000" y="891000"/>
              <a:ext cx="1390680" cy="252000"/>
              <a:chOff x="4392000" y="891000"/>
              <a:chExt cx="1390680" cy="25200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5064480" y="340560"/>
                <a:ext cx="83880" cy="1352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4304520" y="978480"/>
                <a:ext cx="252000" cy="77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00400" y="596520"/>
              <a:ext cx="1005840" cy="851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6" name=""/>
            <p:cNvCxnSpPr>
              <a:stCxn id="95" idx="0"/>
              <a:endCxn id="94" idx="6"/>
            </p:cNvCxnSpPr>
            <p:nvPr/>
          </p:nvCxnSpPr>
          <p:spPr>
            <a:xfrm flipH="1" rot="16200000">
              <a:off x="3792960" y="506520"/>
              <a:ext cx="547920" cy="727560"/>
            </a:xfrm>
            <a:prstGeom prst="curvedConnector5">
              <a:avLst>
                <a:gd name="adj1" fmla="val -23011"/>
                <a:gd name="adj2" fmla="val 40891"/>
                <a:gd name="adj3" fmla="val -230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>
              <a:stCxn id="93" idx="0"/>
              <a:endCxn id="95" idx="2"/>
            </p:cNvCxnSpPr>
            <p:nvPr/>
          </p:nvCxnSpPr>
          <p:spPr>
            <a:xfrm flipH="1">
              <a:off x="3702240" y="1017720"/>
              <a:ext cx="2080440" cy="430560"/>
            </a:xfrm>
            <a:prstGeom prst="curvedConnector5">
              <a:avLst>
                <a:gd name="adj1" fmla="val -7113"/>
                <a:gd name="adj2" fmla="val 64602"/>
                <a:gd name="adj3" fmla="val -711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" name=""/>
            <p:cNvSpPr/>
            <p:nvPr/>
          </p:nvSpPr>
          <p:spPr>
            <a:xfrm>
              <a:off x="4425480" y="918720"/>
              <a:ext cx="1357560" cy="22428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372080" y="891000"/>
              <a:ext cx="1390680" cy="252000"/>
              <a:chOff x="7372080" y="891000"/>
              <a:chExt cx="1390680" cy="252000"/>
            </a:xfrm>
          </p:grpSpPr>
          <p:sp>
            <p:nvSpPr>
              <p:cNvPr id="100" name=""/>
              <p:cNvSpPr/>
              <p:nvPr/>
            </p:nvSpPr>
            <p:spPr>
              <a:xfrm rot="5400000">
                <a:off x="8044560" y="340560"/>
                <a:ext cx="83880" cy="1352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7284600" y="978480"/>
                <a:ext cx="252000" cy="77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6180120" y="596520"/>
              <a:ext cx="1005840" cy="851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3" name=""/>
            <p:cNvCxnSpPr>
              <a:stCxn id="102" idx="0"/>
              <a:endCxn id="101" idx="6"/>
            </p:cNvCxnSpPr>
            <p:nvPr/>
          </p:nvCxnSpPr>
          <p:spPr>
            <a:xfrm flipH="1" rot="16200000">
              <a:off x="6773040" y="506520"/>
              <a:ext cx="547920" cy="727560"/>
            </a:xfrm>
            <a:prstGeom prst="curvedConnector5">
              <a:avLst>
                <a:gd name="adj1" fmla="val -23011"/>
                <a:gd name="adj2" fmla="val 40891"/>
                <a:gd name="adj3" fmla="val -230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" name=""/>
            <p:cNvCxnSpPr>
              <a:stCxn id="100" idx="0"/>
              <a:endCxn id="102" idx="2"/>
            </p:cNvCxnSpPr>
            <p:nvPr/>
          </p:nvCxnSpPr>
          <p:spPr>
            <a:xfrm flipH="1">
              <a:off x="6682320" y="1017720"/>
              <a:ext cx="2080440" cy="430560"/>
            </a:xfrm>
            <a:prstGeom prst="curvedConnector5">
              <a:avLst>
                <a:gd name="adj1" fmla="val -7113"/>
                <a:gd name="adj2" fmla="val 64602"/>
                <a:gd name="adj3" fmla="val -711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" name=""/>
            <p:cNvSpPr/>
            <p:nvPr/>
          </p:nvSpPr>
          <p:spPr>
            <a:xfrm>
              <a:off x="7405560" y="918720"/>
              <a:ext cx="562680" cy="22428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95560" y="-76320"/>
              <a:ext cx="64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24680" y="-76320"/>
              <a:ext cx="64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09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14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20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-76320"/>
            <a:ext cx="5788080" cy="2310120"/>
            <a:chOff x="3048120" y="-76320"/>
            <a:chExt cx="5788080" cy="2310120"/>
          </a:xfrm>
        </p:grpSpPr>
        <p:grpSp>
          <p:nvGrpSpPr>
            <p:cNvPr id="126" name=""/>
            <p:cNvGrpSpPr/>
            <p:nvPr/>
          </p:nvGrpSpPr>
          <p:grpSpPr>
            <a:xfrm>
              <a:off x="4256280" y="1277640"/>
              <a:ext cx="1409760" cy="353160"/>
              <a:chOff x="4256280" y="1277640"/>
              <a:chExt cx="1409760" cy="353160"/>
            </a:xfrm>
          </p:grpSpPr>
          <p:sp>
            <p:nvSpPr>
              <p:cNvPr id="127" name=""/>
              <p:cNvSpPr/>
              <p:nvPr/>
            </p:nvSpPr>
            <p:spPr>
              <a:xfrm rot="5400000">
                <a:off x="4921920" y="768240"/>
                <a:ext cx="117360" cy="137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400000">
                <a:off x="4118760" y="1415160"/>
                <a:ext cx="353160" cy="78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3048120" y="865440"/>
              <a:ext cx="1019520" cy="1191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>
              <a:stCxn id="129" idx="0"/>
              <a:endCxn id="128" idx="6"/>
            </p:cNvCxnSpPr>
            <p:nvPr/>
          </p:nvCxnSpPr>
          <p:spPr>
            <a:xfrm flipH="1" rot="16200000">
              <a:off x="3543120" y="879480"/>
              <a:ext cx="766800" cy="738000"/>
            </a:xfrm>
            <a:prstGeom prst="curvedConnector5">
              <a:avLst>
                <a:gd name="adj1" fmla="val -23015"/>
                <a:gd name="adj2" fmla="val 40849"/>
                <a:gd name="adj3" fmla="val -230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127" idx="0"/>
              <a:endCxn id="129" idx="2"/>
            </p:cNvCxnSpPr>
            <p:nvPr/>
          </p:nvCxnSpPr>
          <p:spPr>
            <a:xfrm flipH="1">
              <a:off x="3557160" y="1455120"/>
              <a:ext cx="2108880" cy="602640"/>
            </a:xfrm>
            <a:prstGeom prst="curvedConnector5">
              <a:avLst>
                <a:gd name="adj1" fmla="val -7102"/>
                <a:gd name="adj2" fmla="val 64614"/>
                <a:gd name="adj3" fmla="val -710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2" name=""/>
            <p:cNvSpPr/>
            <p:nvPr/>
          </p:nvSpPr>
          <p:spPr>
            <a:xfrm>
              <a:off x="4289760" y="1316880"/>
              <a:ext cx="1375920" cy="31392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277040" y="1277640"/>
              <a:ext cx="1409760" cy="353160"/>
              <a:chOff x="7277040" y="1277640"/>
              <a:chExt cx="1409760" cy="353160"/>
            </a:xfrm>
          </p:grpSpPr>
          <p:sp>
            <p:nvSpPr>
              <p:cNvPr id="134" name=""/>
              <p:cNvSpPr/>
              <p:nvPr/>
            </p:nvSpPr>
            <p:spPr>
              <a:xfrm rot="5400000">
                <a:off x="7942680" y="768240"/>
                <a:ext cx="117360" cy="137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5400000">
                <a:off x="7139520" y="1415160"/>
                <a:ext cx="353160" cy="78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068520" y="865440"/>
              <a:ext cx="1019520" cy="1191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7" name=""/>
            <p:cNvCxnSpPr>
              <a:stCxn id="136" idx="0"/>
              <a:endCxn id="135" idx="6"/>
            </p:cNvCxnSpPr>
            <p:nvPr/>
          </p:nvCxnSpPr>
          <p:spPr>
            <a:xfrm flipH="1" rot="16200000">
              <a:off x="6563880" y="879480"/>
              <a:ext cx="766800" cy="738000"/>
            </a:xfrm>
            <a:prstGeom prst="curvedConnector5">
              <a:avLst>
                <a:gd name="adj1" fmla="val -23015"/>
                <a:gd name="adj2" fmla="val 40849"/>
                <a:gd name="adj3" fmla="val -230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4" idx="0"/>
              <a:endCxn id="136" idx="2"/>
            </p:cNvCxnSpPr>
            <p:nvPr/>
          </p:nvCxnSpPr>
          <p:spPr>
            <a:xfrm flipH="1">
              <a:off x="6577920" y="1455120"/>
              <a:ext cx="2108880" cy="602640"/>
            </a:xfrm>
            <a:prstGeom prst="curvedConnector5">
              <a:avLst>
                <a:gd name="adj1" fmla="val -7102"/>
                <a:gd name="adj2" fmla="val 64614"/>
                <a:gd name="adj3" fmla="val -710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310520" y="1316880"/>
              <a:ext cx="570600" cy="31392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3000" y="-76320"/>
              <a:ext cx="65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24600" y="-76320"/>
              <a:ext cx="65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1520" y="1316880"/>
              <a:ext cx="570600" cy="31392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1120" y="1454040"/>
              <a:ext cx="5040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45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51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48120" y="-76320"/>
            <a:ext cx="5995080" cy="1979640"/>
            <a:chOff x="3048120" y="-76320"/>
            <a:chExt cx="5995080" cy="1979640"/>
          </a:xfrm>
        </p:grpSpPr>
        <p:grpSp>
          <p:nvGrpSpPr>
            <p:cNvPr id="157" name=""/>
            <p:cNvGrpSpPr/>
            <p:nvPr/>
          </p:nvGrpSpPr>
          <p:grpSpPr>
            <a:xfrm>
              <a:off x="4298760" y="1083960"/>
              <a:ext cx="1459800" cy="302400"/>
              <a:chOff x="4298760" y="1083960"/>
              <a:chExt cx="1459800" cy="302400"/>
            </a:xfrm>
          </p:grpSpPr>
          <p:sp>
            <p:nvSpPr>
              <p:cNvPr id="158" name=""/>
              <p:cNvSpPr/>
              <p:nvPr/>
            </p:nvSpPr>
            <p:spPr>
              <a:xfrm rot="5400000">
                <a:off x="4998600" y="524880"/>
                <a:ext cx="100440" cy="1419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5400000">
                <a:off x="4187880" y="1194480"/>
                <a:ext cx="3024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048120" y="730800"/>
              <a:ext cx="1055880" cy="1021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1" name=""/>
            <p:cNvCxnSpPr>
              <a:stCxn id="160" idx="0"/>
              <a:endCxn id="159" idx="6"/>
            </p:cNvCxnSpPr>
            <p:nvPr/>
          </p:nvCxnSpPr>
          <p:spPr>
            <a:xfrm flipH="1" rot="16200000">
              <a:off x="3629160" y="677160"/>
              <a:ext cx="657360" cy="764280"/>
            </a:xfrm>
            <a:prstGeom prst="curvedConnector5">
              <a:avLst>
                <a:gd name="adj1" fmla="val -23013"/>
                <a:gd name="adj2" fmla="val 40857"/>
                <a:gd name="adj3" fmla="val -230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" name=""/>
            <p:cNvCxnSpPr>
              <a:stCxn id="158" idx="0"/>
              <a:endCxn id="160" idx="2"/>
            </p:cNvCxnSpPr>
            <p:nvPr/>
          </p:nvCxnSpPr>
          <p:spPr>
            <a:xfrm flipH="1">
              <a:off x="3575520" y="1235880"/>
              <a:ext cx="2183760" cy="516600"/>
            </a:xfrm>
            <a:prstGeom prst="curvedConnector5">
              <a:avLst>
                <a:gd name="adj1" fmla="val -7106"/>
                <a:gd name="adj2" fmla="val 64644"/>
                <a:gd name="adj3" fmla="val -71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4334040" y="1117800"/>
              <a:ext cx="1424880" cy="26892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427160" y="1083960"/>
              <a:ext cx="1459800" cy="302400"/>
              <a:chOff x="7427160" y="1083960"/>
              <a:chExt cx="1459800" cy="302400"/>
            </a:xfrm>
          </p:grpSpPr>
          <p:sp>
            <p:nvSpPr>
              <p:cNvPr id="165" name=""/>
              <p:cNvSpPr/>
              <p:nvPr/>
            </p:nvSpPr>
            <p:spPr>
              <a:xfrm rot="5400000">
                <a:off x="8127000" y="524880"/>
                <a:ext cx="100440" cy="1419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7316280" y="1194480"/>
                <a:ext cx="3024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6176160" y="730800"/>
              <a:ext cx="1055880" cy="1021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8" name=""/>
            <p:cNvCxnSpPr>
              <a:stCxn id="167" idx="0"/>
              <a:endCxn id="166" idx="6"/>
            </p:cNvCxnSpPr>
            <p:nvPr/>
          </p:nvCxnSpPr>
          <p:spPr>
            <a:xfrm flipH="1" rot="16200000">
              <a:off x="6757200" y="677160"/>
              <a:ext cx="657360" cy="764280"/>
            </a:xfrm>
            <a:prstGeom prst="curvedConnector5">
              <a:avLst>
                <a:gd name="adj1" fmla="val -23013"/>
                <a:gd name="adj2" fmla="val 40857"/>
                <a:gd name="adj3" fmla="val -230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" name=""/>
            <p:cNvCxnSpPr>
              <a:stCxn id="170" idx="0"/>
              <a:endCxn id="167" idx="2"/>
            </p:cNvCxnSpPr>
            <p:nvPr/>
          </p:nvCxnSpPr>
          <p:spPr>
            <a:xfrm flipH="1">
              <a:off x="6703560" y="1153080"/>
              <a:ext cx="2183760" cy="599400"/>
            </a:xfrm>
            <a:prstGeom prst="curvedConnector5">
              <a:avLst>
                <a:gd name="adj1" fmla="val -7155"/>
                <a:gd name="adj2" fmla="val 62620"/>
                <a:gd name="adj3" fmla="val -71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1" name=""/>
            <p:cNvSpPr/>
            <p:nvPr/>
          </p:nvSpPr>
          <p:spPr>
            <a:xfrm>
              <a:off x="3778200" y="-7632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64640" y="-76320"/>
              <a:ext cx="67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531920" y="983160"/>
              <a:ext cx="1459440" cy="302400"/>
              <a:chOff x="7531920" y="983160"/>
              <a:chExt cx="1459440" cy="302400"/>
            </a:xfrm>
          </p:grpSpPr>
          <p:sp>
            <p:nvSpPr>
              <p:cNvPr id="174" name=""/>
              <p:cNvSpPr/>
              <p:nvPr/>
            </p:nvSpPr>
            <p:spPr>
              <a:xfrm rot="5400000">
                <a:off x="8231760" y="424080"/>
                <a:ext cx="100440" cy="1418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400000">
                <a:off x="7421040" y="1093680"/>
                <a:ext cx="3024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7462080" y="932760"/>
              <a:ext cx="1424880" cy="50436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77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.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n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 Boy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 Tave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 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h Manspe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y DeGr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 Mil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ison Geh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Harr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 Flaug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k Nardy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lectromagnet Team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agnet Variable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tep 4, Key ?’s 11-15, and Quiz 3 – DUE FRI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first battery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1:48:39Z</dcterms:created>
  <dc:creator>CCPS</dc:creator>
  <dc:description/>
  <dc:language>en-US</dc:language>
  <cp:lastModifiedBy>CCPS</cp:lastModifiedBy>
  <dcterms:modified xsi:type="dcterms:W3CDTF">2010-03-24T11:48:58Z</dcterms:modified>
  <cp:revision>2</cp:revision>
  <dc:subject/>
  <dc:title>Slide 1</dc:title>
</cp:coreProperties>
</file>